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88D4-C8B2-44EB-ACD5-E996AE85B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EBCB-9013-48C8-9592-DE09074DB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C4E0-7B89-4802-BD8A-390B1BD7E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AAE5-1B21-4E4F-9915-9EEFC15F7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EA9E-40D2-4B61-B1AD-D289BC929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FF3A-97E6-46F7-A9CD-F9154412D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60E4-551E-4D09-A05D-54223A7D0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84BB-5B84-40ED-8C93-FD2F8E156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F2CA-49BC-40F0-AE23-AF1067118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921C-2831-442B-B3C9-0F72B747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2E9A-881C-48BD-914A-46512E40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3384-CD93-4BFC-A38E-932E3296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51EC3-D32C-49AD-AD60-F3C3FAFB589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Monotype Corsiva"/>
              </a:rPr>
              <a:t>Иконопись в Древней Рус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8120" y="1447920"/>
            <a:ext cx="579096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Monotype Corsiva"/>
              </a:rPr>
              <a:t>...её сияющие краски, сильные и яркие, её ритмические силуэты, певучие и мягкие, её просветленные лики, ласковые и поэтичные, её эпическое настроение, спокойное и сосредоточенное, - все это вызывает ощущение какой-то внутренней легкости, когда все противоборствующие страсти приведены в согласие и когда возникает это особое чувство гармонии, которое рождается при звуках современной музы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Monotype Corsiva"/>
              </a:rPr>
              <a:t>В. Н. Лазаре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4" descr="Георгий_ Новгород нач15в"/>
          <p:cNvPicPr/>
          <p:nvPr/>
        </p:nvPicPr>
        <p:blipFill>
          <a:blip r:embed="rId1"/>
          <a:stretch/>
        </p:blipFill>
        <p:spPr>
          <a:xfrm>
            <a:off x="395280" y="1484280"/>
            <a:ext cx="2487600" cy="3587760"/>
          </a:xfrm>
          <a:prstGeom prst="rect">
            <a:avLst/>
          </a:prstGeom>
          <a:ln w="0">
            <a:noFill/>
          </a:ln>
        </p:spPr>
      </p:pic>
      <p:sp>
        <p:nvSpPr>
          <p:cNvPr id="44" name="Скругленный прямоугольник 4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Monotype Corsiva"/>
              </a:rPr>
              <a:t>Что такое икон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Икона (в переводе с греческого – «образ») – это изображения Иисуса Христа, Богоматери, святых, которые призваны напоминать о событиях Священного пис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4Virgin Eleusa"/>
          <p:cNvPicPr/>
          <p:nvPr/>
        </p:nvPicPr>
        <p:blipFill>
          <a:blip r:embed="rId1"/>
          <a:stretch/>
        </p:blipFill>
        <p:spPr>
          <a:xfrm>
            <a:off x="468360" y="1268280"/>
            <a:ext cx="42004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Monotype Corsiva"/>
              </a:rPr>
              <a:t>Особенности живопис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345440" cy="45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В отличие от византийских , русский иконописец предпочитает мягкую светотеневую манеру, так называемую плавь, то есть плавно накладывали крас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Тона красок накладывались в несколько слоёв с учётом просвечивания более ярких  нижних через прозрачные и светлые верхние. Наиболее выступающие места покрывались светлой краской несколько раз, так что эти участки многослойного письма производят впечатление излучающих свет, светоносны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Monotype Corsiva"/>
              </a:rPr>
              <a:t>Цветовая гамма икон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Цветовая гамма русских икон поражает своим разнообразием. Цвет также необходим образам-символам, как и геометрические фигуры, в которые они вписываются. Цветом озаряется линия, чтобы зазвучать ещё краше, обрести ещё большую музыкально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6" descr="Державная1"/>
          <p:cNvPicPr/>
          <p:nvPr/>
        </p:nvPicPr>
        <p:blipFill>
          <a:blip r:embed="rId1"/>
          <a:stretch/>
        </p:blipFill>
        <p:spPr>
          <a:xfrm>
            <a:off x="154080" y="1413000"/>
            <a:ext cx="42242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Monotype Corsiva"/>
              </a:rPr>
              <a:t>Спас Нерукотворный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1680" y="1676160"/>
            <a:ext cx="4191120" cy="213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вгород 12 ве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«</a:t>
            </a: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Спас Нерукотворный» - один из самых известных и почитаемых образов Христа. Существует несколько легенд о его происхождении. Считается, что этот образ является самым достоверны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7" descr="Спас Нерукотворный Новгород"/>
          <p:cNvPicPr/>
          <p:nvPr/>
        </p:nvPicPr>
        <p:blipFill>
          <a:blip r:embed="rId1"/>
          <a:stretch/>
        </p:blipFill>
        <p:spPr>
          <a:xfrm>
            <a:off x="87480" y="2060640"/>
            <a:ext cx="42861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7e7ff"/>
                </a:solidFill>
                <a:latin typeface="Monotype Corsiva"/>
              </a:rPr>
              <a:t>Спас Вседержитель</a:t>
            </a:r>
            <a:br>
              <a:rPr sz="4000"/>
            </a:br>
            <a:r>
              <a:rPr b="1" lang="ru-RU" sz="4000" spc="-1" strike="noStrike">
                <a:solidFill>
                  <a:srgbClr val="b7e7ff"/>
                </a:solidFill>
                <a:latin typeface="Monotype Corsiva"/>
              </a:rPr>
              <a:t>14 век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Образ Христа, благословляющего верующих. В правой руке он держит Евангел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211640" y="1628640"/>
            <a:ext cx="4194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5" descr="Вседержитель 14в Византия"/>
          <p:cNvPicPr/>
          <p:nvPr/>
        </p:nvPicPr>
        <p:blipFill>
          <a:blip r:embed="rId1"/>
          <a:stretch/>
        </p:blipFill>
        <p:spPr>
          <a:xfrm>
            <a:off x="4627440" y="1484280"/>
            <a:ext cx="3753000" cy="496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26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7e7ff"/>
                </a:solidFill>
                <a:latin typeface="Monotype Corsiva"/>
              </a:rPr>
              <a:t>Иконографический тип Елеуса (Умиление)</a:t>
            </a:r>
            <a:br>
              <a:rPr sz="4000"/>
            </a:br>
            <a:r>
              <a:rPr b="1" lang="ru-RU" sz="4000" spc="-1" strike="noStrike">
                <a:solidFill>
                  <a:srgbClr val="b7e7ff"/>
                </a:solidFill>
                <a:latin typeface="Monotype Corsiva"/>
              </a:rPr>
              <a:t>Богоматерь Владимирская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2" name="Picture 3" descr="Владимирская"/>
          <p:cNvPicPr/>
          <p:nvPr/>
        </p:nvPicPr>
        <p:blipFill>
          <a:blip r:embed="rId1"/>
          <a:stretch/>
        </p:blipFill>
        <p:spPr>
          <a:xfrm>
            <a:off x="368280" y="1484280"/>
            <a:ext cx="3728880" cy="53737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Monotype Corsiva"/>
              </a:rPr>
              <a:t>Поясной образ, символизирующий материнскую любовь и единение с Христом. Голова Богоматери наклонена. Христос прижимается к её щек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Monotype Corsiva"/>
              </a:rPr>
              <a:t>Богоматерь Донская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5" name="Picture 3" descr="Донская икона Божией Матери"/>
          <p:cNvPicPr/>
          <p:nvPr/>
        </p:nvPicPr>
        <p:blipFill>
          <a:blip r:embed="rId1"/>
          <a:stretch/>
        </p:blipFill>
        <p:spPr>
          <a:xfrm>
            <a:off x="380880" y="1523880"/>
            <a:ext cx="3495960" cy="44960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Богоматерь Донская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Историческая реликвия, овеянная славой. Её чтили как защитницу       Отечест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7e7ff"/>
                </a:solidFill>
                <a:latin typeface="Monotype Corsiva"/>
              </a:rPr>
              <a:t>Богоматерь Панагия (Всесвятая).На груди Богоматери Оранты  изображён в круге славы Христос.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8" name="Picture 5" descr="10- Знамение"/>
          <p:cNvPicPr/>
          <p:nvPr/>
        </p:nvPicPr>
        <p:blipFill>
          <a:blip r:embed="rId1"/>
          <a:stretch/>
        </p:blipFill>
        <p:spPr>
          <a:xfrm>
            <a:off x="4199040" y="1676520"/>
            <a:ext cx="4151160" cy="4572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Беря начало от византийской живописи, русская иконопись сумела выработать самостоятельный язы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Для неё характерны и свой способ отражения жизни, и свои живописные приёмы, и свои секреты ремес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98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3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18:22:31Z</dcterms:created>
  <dc:creator>Сергей</dc:creator>
  <dc:description/>
  <dc:language>en-US</dc:language>
  <cp:lastModifiedBy>Owner</cp:lastModifiedBy>
  <dcterms:modified xsi:type="dcterms:W3CDTF">2011-07-11T09:47:41Z</dcterms:modified>
  <cp:revision>13</cp:revision>
  <dc:subject/>
  <dc:title>Искусство иконописи в Древней Руси</dc:title>
</cp:coreProperties>
</file>